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ECB-CC78-44C8-8E5D-49684A96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260-CBDA-4918-A30E-38DB9FEE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E0C-E090-42A4-B557-4AD06F29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F4F-A8A9-4FF8-8E6C-7B8F4557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0BB-D239-48D4-A314-FA9A240A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F8A-5CD7-482C-8358-110EA30E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112-39AE-4CCA-894A-944631ED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AF4-246E-4CB0-AE20-BB5CD076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B93-91B0-45BE-B24E-6F89020C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FAC-3A79-4A04-85E7-CF64F4D0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4B5-4568-406D-A67B-6EE8F50B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46B-78F6-4558-8D69-8B4D32BD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B21A-3325-477B-A036-4114E6BE9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intro-bkg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14400" y="762120"/>
            <a:ext cx="771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719280" y="56664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1600"/>
            </a:br>
            <a:r>
              <a:rPr b="0" i="1" lang="en-US" sz="5400" spc="-1" strike="noStrike">
                <a:solidFill>
                  <a:srgbClr val="ccff33"/>
                </a:solidFill>
                <a:latin typeface="Franklin Gothic Heavy"/>
              </a:rPr>
              <a:t>Chemicals and Safe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en-US" sz="5400" spc="-1" strike="noStrike">
                <a:solidFill>
                  <a:srgbClr val="333399"/>
                </a:solidFill>
                <a:latin typeface="Franklin Gothic Heavy"/>
              </a:rPr>
              <a:t>Chemicals and Safe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7" descr="fertilizer-a"/>
          <p:cNvPicPr/>
          <p:nvPr/>
        </p:nvPicPr>
        <p:blipFill>
          <a:blip r:embed="rId2"/>
          <a:stretch/>
        </p:blipFill>
        <p:spPr>
          <a:xfrm>
            <a:off x="0" y="2522520"/>
            <a:ext cx="9144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" descr="bkgd-flammable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096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Chemical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6240" y="171468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Franklin Gothic Medium"/>
              </a:rPr>
              <a:t>Pyrophoric Subst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bkgd-biohazar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Chemical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1819440"/>
            <a:ext cx="62481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Franklin Gothic Medium"/>
              </a:rPr>
              <a:t>Carcinog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intro-bkgd-1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Chemicals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8068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Franklin Gothic Medium"/>
              </a:rPr>
              <a:t>Questions and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intro-bkg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57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Franklin Gothic Medium"/>
              </a:rPr>
              <a:t>Chemicals – Helpful and Harmfu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11" descr="bags"/>
          <p:cNvPicPr/>
          <p:nvPr/>
        </p:nvPicPr>
        <p:blipFill>
          <a:blip r:embed="rId3"/>
          <a:stretch/>
        </p:blipFill>
        <p:spPr>
          <a:xfrm>
            <a:off x="1600200" y="1752480"/>
            <a:ext cx="5943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ntro-bkgd-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9976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Franklin Gothic Medium"/>
              </a:rPr>
              <a:t>Sample Pesticide La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6" descr="e2182v2"/>
          <p:cNvPicPr/>
          <p:nvPr/>
        </p:nvPicPr>
        <p:blipFill>
          <a:blip r:embed="rId3"/>
          <a:stretch/>
        </p:blipFill>
        <p:spPr>
          <a:xfrm>
            <a:off x="1905120" y="1790640"/>
            <a:ext cx="5508360" cy="38480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7" name="Text Box 28"/>
          <p:cNvSpPr/>
          <p:nvPr/>
        </p:nvSpPr>
        <p:spPr>
          <a:xfrm>
            <a:off x="7464960" y="35053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Ingred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7474320" y="182880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0"/>
          <p:cNvSpPr/>
          <p:nvPr/>
        </p:nvSpPr>
        <p:spPr>
          <a:xfrm>
            <a:off x="7536600" y="4724280"/>
            <a:ext cx="12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W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213480" y="1905120"/>
            <a:ext cx="13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Dir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2"/>
          <p:cNvSpPr/>
          <p:nvPr/>
        </p:nvSpPr>
        <p:spPr>
          <a:xfrm>
            <a:off x="31320" y="524196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3"/>
          <p:cNvSpPr/>
          <p:nvPr/>
        </p:nvSpPr>
        <p:spPr>
          <a:xfrm flipH="1">
            <a:off x="6553080" y="2057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 flipH="1">
            <a:off x="708660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5"/>
          <p:cNvSpPr/>
          <p:nvPr/>
        </p:nvSpPr>
        <p:spPr>
          <a:xfrm flipH="1">
            <a:off x="708660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8"/>
          <p:cNvSpPr/>
          <p:nvPr/>
        </p:nvSpPr>
        <p:spPr>
          <a:xfrm>
            <a:off x="1685880" y="2104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9"/>
          <p:cNvSpPr/>
          <p:nvPr/>
        </p:nvSpPr>
        <p:spPr>
          <a:xfrm>
            <a:off x="1743120" y="54482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237240" y="493704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Registry 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1"/>
          <p:cNvSpPr/>
          <p:nvPr/>
        </p:nvSpPr>
        <p:spPr>
          <a:xfrm>
            <a:off x="1752480" y="5181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244800" y="4057560"/>
            <a:ext cx="136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Storage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Dis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4"/>
          <p:cNvSpPr/>
          <p:nvPr/>
        </p:nvSpPr>
        <p:spPr>
          <a:xfrm>
            <a:off x="1523880" y="44197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5"/>
          <p:cNvSpPr/>
          <p:nvPr/>
        </p:nvSpPr>
        <p:spPr>
          <a:xfrm>
            <a:off x="226080" y="3352680"/>
            <a:ext cx="141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Re-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6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7"/>
          <p:cNvSpPr/>
          <p:nvPr/>
        </p:nvSpPr>
        <p:spPr>
          <a:xfrm>
            <a:off x="202320" y="2362320"/>
            <a:ext cx="148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Prot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523880" y="2895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9"/>
          <p:cNvSpPr/>
          <p:nvPr/>
        </p:nvSpPr>
        <p:spPr>
          <a:xfrm>
            <a:off x="3021840" y="5791320"/>
            <a:ext cx="33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The Label is the Law.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8" descr="bkgd-ref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280" y="5904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Franklin Gothic Medium"/>
              </a:rPr>
              <a:t>Basic Rules of Chemical Safe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0"/>
          <p:cNvSpPr/>
          <p:nvPr/>
        </p:nvSpPr>
        <p:spPr>
          <a:xfrm>
            <a:off x="1649520" y="2514600"/>
            <a:ext cx="40287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Franklin Gothic Medium"/>
              </a:rPr>
              <a:t>Be Aw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Franklin Gothic Medium"/>
              </a:rPr>
              <a:t>      </a:t>
            </a:r>
            <a:r>
              <a:rPr b="0" lang="en-US" sz="4000" spc="-1" strike="noStrike">
                <a:solidFill>
                  <a:srgbClr val="333399"/>
                </a:solidFill>
                <a:latin typeface="Franklin Gothic Medium"/>
              </a:rPr>
              <a:t>Be Aler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Franklin Gothic Medium"/>
              </a:rPr>
              <a:t>            </a:t>
            </a:r>
            <a:r>
              <a:rPr b="0" lang="en-US" sz="4800" spc="-1" strike="noStrike">
                <a:solidFill>
                  <a:srgbClr val="333399"/>
                </a:solidFill>
                <a:latin typeface="Franklin Gothic Medium"/>
              </a:rPr>
              <a:t>Be Aliv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ntro-bkgd-1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Causes of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Franklin Gothic Book"/>
              </a:rPr>
              <a:t>Principle modes of chemical inju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1. </a:t>
            </a:r>
            <a:r>
              <a:rPr b="1" lang="en-US" sz="2800" spc="-1" strike="noStrike">
                <a:solidFill>
                  <a:srgbClr val="333399"/>
                </a:solidFill>
                <a:latin typeface="Franklin Gothic Medium"/>
              </a:rPr>
              <a:t>Chemical Burns</a:t>
            </a: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 (strong acids, strong ba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2. </a:t>
            </a:r>
            <a:r>
              <a:rPr b="1" lang="en-US" sz="2800" spc="-1" strike="noStrike">
                <a:solidFill>
                  <a:srgbClr val="333399"/>
                </a:solidFill>
                <a:latin typeface="Franklin Gothic Medium"/>
              </a:rPr>
              <a:t>Heat Burns</a:t>
            </a: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 (flammable mater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3. </a:t>
            </a:r>
            <a:r>
              <a:rPr b="1" lang="en-US" sz="2800" spc="-1" strike="noStrike">
                <a:solidFill>
                  <a:srgbClr val="333399"/>
                </a:solidFill>
                <a:latin typeface="Franklin Gothic Medium"/>
              </a:rPr>
              <a:t>Poisoning </a:t>
            </a: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(many chemicals are damaging or fatal if taken internally, whether by swallowing, injection, or leaching through sk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4. </a:t>
            </a:r>
            <a:r>
              <a:rPr b="1" lang="en-US" sz="2800" spc="-1" strike="noStrike">
                <a:solidFill>
                  <a:srgbClr val="333399"/>
                </a:solidFill>
                <a:latin typeface="Franklin Gothic Medium"/>
              </a:rPr>
              <a:t>Chronic illness</a:t>
            </a: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 (long-term exposure to even low doses of certain chemical agents can lead to chronic health condi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bkgd-categories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Franklin Gothic Medium"/>
              </a:rPr>
              <a:t>Chemical Categ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6" descr="bkgd-corrosive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57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Chemical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Franklin Gothic Medium"/>
              </a:rPr>
              <a:t>Acids &amp;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bkgd--flammable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Chemical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Franklin Gothic Medium"/>
              </a:rPr>
              <a:t>Flammable Chem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" descr="bkgd-oxidizer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32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Chemical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24040" y="179028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Franklin Gothic Medium"/>
              </a:rPr>
              <a:t>Oxidiz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20:27:15Z</dcterms:created>
  <dc:creator>Charles M. Brown</dc:creator>
  <dc:description/>
  <dc:language>en-US</dc:language>
  <cp:lastModifiedBy>Microsoft Office User</cp:lastModifiedBy>
  <dcterms:modified xsi:type="dcterms:W3CDTF">2011-09-16T01:13:25Z</dcterms:modified>
  <cp:revision>87</cp:revision>
  <dc:subject/>
  <dc:title>PowerPoint Presentation</dc:title>
</cp:coreProperties>
</file>